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5323B-65F5-42E1-AE68-363C25A2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D691-7256-4207-BF66-0E49ABEBE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BEBDF-4C77-4CDC-A952-5F34986A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3BD4-D8CE-45FD-BA02-984A0649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89D-1541-4B02-96CE-59CD5A0E9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E08-5E91-4E0B-A3A9-4D2B08865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A81-8813-4164-9FAB-7A45E509C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1D4-BC4A-4C7F-BA3F-5AE11D77B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FDCE-972F-45F7-862A-811BE130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D777-E356-4F27-96F5-53626645C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808-394C-40A0-9DBD-E5B649499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7585-7EE6-4D19-9834-DB6C5A6F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6679-89CB-4844-922D-30E348FAAE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Loss Reserve</a:t>
            </a:r>
            <a:br>
              <a:rPr sz="3600"/>
            </a:br>
            <a:r>
              <a:rPr b="1" lang="en-AU" sz="3600" spc="-1" strike="noStrike">
                <a:solidFill>
                  <a:srgbClr val="000000"/>
                </a:solidFill>
                <a:latin typeface="Verdana"/>
              </a:rPr>
              <a:t>Upgrades - A Pervasive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505320"/>
            <a:ext cx="670536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 debunk a critical loss reserving myth involving loss reserve upgrades that is pervasive in the insurance industry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412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Visit the abovementioned URL for a simple arithmetic proof of the above mentioned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Reading the following related paper may also prove usefu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i="1" lang="en-AU" sz="2400" spc="-1" strike="noStrike">
                <a:solidFill>
                  <a:srgbClr val="000000"/>
                </a:solidFill>
                <a:latin typeface="Verdana"/>
              </a:rPr>
              <a:t>Will Your Next Reserve Increase Be Your Last”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by Prof. Ben Zehnwirth, Dr Julie Sims and Mark Shapland, published i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CONTINGENCIES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, the publication by the American Academy of Actuaries in the Jan/Feb 2004 issue on Page 40-44 (PDF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Big Myth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ular reserve upgrades means that the company is (and has been) under-reserved and a significant increase (</a:t>
            </a: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“a big hit”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 in reserves means no subsequent reserve increases will be requi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he Reality</a:t>
            </a:r>
            <a:br>
              <a:rPr sz="32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1629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understanding of the reserving process contradicts a very simple arithmetic truism. Repeat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 upgrades does not mean under-reserving. Indeed, the converse may be true. I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reserves are not increased annually then the company is likely to be under-reserved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4920" y="260280"/>
            <a:ext cx="883908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serveincreases%20-%20part%20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2517480"/>
          </a:xfrm>
          <a:prstGeom prst="rect">
            <a:avLst/>
          </a:prstGeom>
          <a:ln w="0">
            <a:noFill/>
          </a:ln>
        </p:spPr>
      </p:pic>
      <p:pic>
        <p:nvPicPr>
          <p:cNvPr id="49" name="Reserveincreases%20-%20part%203" descr=""/>
          <p:cNvPicPr/>
          <p:nvPr/>
        </p:nvPicPr>
        <p:blipFill>
          <a:blip r:embed="rId2"/>
          <a:stretch/>
        </p:blipFill>
        <p:spPr>
          <a:xfrm>
            <a:off x="0" y="2971800"/>
            <a:ext cx="914400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Reserveincreases%20-%20part%204" descr=""/>
          <p:cNvPicPr/>
          <p:nvPr/>
        </p:nvPicPr>
        <p:blipFill>
          <a:blip r:embed="rId1"/>
          <a:stretch/>
        </p:blipFill>
        <p:spPr>
          <a:xfrm>
            <a:off x="228600" y="1143000"/>
            <a:ext cx="868680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does this mean in terms of loss reserving each year? The following are simple arithmetic facts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total reserv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Each year the company needs to increase its premium (price)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The ultimates for prior accident years will remain consistent with each increase in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reserves.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ltimates increase by </a:t>
            </a:r>
            <a:r>
              <a:rPr b="1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at least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 5% from one accident year to the nex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principal reason for these facts is that calendar year inflation projects both onto the accident years and development years- it also impacts all prior accident years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e increases in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each year should not be regarded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If my costs in running my business increase by 5% each year I should at least increase the price of my product by 5% to stay even. I do not regard this increase as an </a:t>
            </a:r>
            <a:r>
              <a:rPr b="1" lang="en-AU" sz="2400" spc="-1" strike="noStrike">
                <a:solidFill>
                  <a:srgbClr val="000000"/>
                </a:solidFill>
                <a:latin typeface="Verdana"/>
              </a:rPr>
              <a:t>upgrade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. On the contrary, if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are not increased by at least 5% each year the company will be under reserved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That the 5% increase applies to the premium and ultimates from year to year is obvious. That it applies to the </a:t>
            </a:r>
            <a:r>
              <a:rPr b="0" lang="en-AU" sz="2400" spc="-1" strike="noStrike" u="sng">
                <a:solidFill>
                  <a:srgbClr val="000000"/>
                </a:solidFill>
                <a:uFillTx/>
                <a:latin typeface="Verdana"/>
              </a:rPr>
              <a:t>tota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 reserves (and still maintaining consistent prior accident year ultimates) may not be so obvious, to some.</a:t>
            </a:r>
            <a:br>
              <a:rPr sz="2400"/>
            </a:br>
            <a:br>
              <a:rPr sz="2400"/>
            </a:b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I have mod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</a:t>
            </a:r>
            <a:r>
              <a:rPr b="0" lang="en-AU" sz="2400" spc="-1" strike="noStrike">
                <a:solidFill>
                  <a:srgbClr val="000000"/>
                </a:solidFill>
                <a:latin typeface="Verdana"/>
              </a:rPr>
              <a:t>ed long tail liabilities from all over the planet. I have measured total inflation (economic and social) in excess of 15% per year on average for 20 years for some portfolios. So we now know why many companies have failed!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3T03:11:05Z</dcterms:created>
  <dc:creator>Nikolai Volodin</dc:creator>
  <dc:description/>
  <dc:language>en-US</dc:language>
  <cp:lastModifiedBy>BenZ</cp:lastModifiedBy>
  <dcterms:modified xsi:type="dcterms:W3CDTF">2005-09-21T20:05:45Z</dcterms:modified>
  <cp:revision>3</cp:revision>
  <dc:subject/>
  <dc:title>Loss Reseverve Upgrages - A Pervasive Myth </dc:title>
</cp:coreProperties>
</file>